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230-78AF-4ECE-92B6-2315CAEB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634-34C0-4C00-B790-C8968DF1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56C-8D1F-4A35-B529-1B51C473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9B4-FB92-45FA-9057-FD510EFA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E75-3F09-4D87-8EF1-19B6805B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B13-B607-4B24-9FE1-15DA7AA4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14F-FA21-4B08-A9F3-32AFBCEA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80B-8B81-42E4-949D-FCAD08D6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0B8-F5DB-4C4E-BF5A-6FDA6075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EE3-064D-4EC0-80CD-08EF3000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C72-277C-4158-8D3C-0A779374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CBF-730E-4B46-8B7B-F229A2A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09BD-53BF-41D0-82B5-01E54C3A22C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avior of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fraction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fraction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bending on oblique entry due to change in medium (different speeds of propagation and different waveleng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85800" y="1606680"/>
          <a:ext cx="777240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6680"/>
                    <a:ext cx="777240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fle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1371600" y="1981080"/>
          <a:ext cx="6458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458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14400"/>
                    <a:ext cx="69343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iffra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685800" y="2278080"/>
          <a:ext cx="777240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8080"/>
                    <a:ext cx="777240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1295280" y="1279440"/>
          <a:ext cx="716292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79440"/>
                    <a:ext cx="716292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terference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hen 2 waves are superimpo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two or more waves travel simultaneously through the same medium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proceeds independently  as though no other waves are pres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276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sultant displacement of any particle at a given time; is the vector sum of the displacements that the individual waves acting alone would give it.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1447920" y="3809880"/>
          <a:ext cx="61722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809880"/>
                    <a:ext cx="61722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structive Interferenc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two waves are “in phase” and crests will show additive effects (extra tall) as will troughs (extra dee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estructive Interferenc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two waves are “in opposite phase” and will cancel each other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e diagrams pg. 3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02:29:11Z</dcterms:created>
  <dc:creator>Chantal Burns</dc:creator>
  <dc:description/>
  <dc:language>en-US</dc:language>
  <cp:lastModifiedBy>Administrator</cp:lastModifiedBy>
  <dcterms:modified xsi:type="dcterms:W3CDTF">2010-12-13T17:11:20Z</dcterms:modified>
  <cp:revision>10</cp:revision>
  <dc:subject/>
  <dc:title>Behavior of Waves</dc:title>
</cp:coreProperties>
</file>